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1317-1A8B-4EBE-8F4E-2DC0D39D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1046-819F-4F45-97E3-06F8B6BB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B599-D585-43AF-89C2-385FF345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A4B5-B058-44C3-A0E9-30367C6C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7573-A7B1-43D4-99EC-8F0725ED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DF77-0710-49BD-9BF9-FD921E98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8CAE-7EBD-4590-94A1-3E237611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FC31-4458-4F36-A44C-523DCF06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7E84-41DD-44E2-87FC-90D32595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AC26-86EB-49B4-BB70-452334EC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D1B1-7984-43B3-8826-99B8B31B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F629-712D-4250-8F81-ABB304F9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21A3D-0D64-4CCE-85BA-BBC2144A41CD}" type="slidenum">
              <a:rPr b="0" lang="cs-CZ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1128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249960"/>
            <a:ext cx="611280" cy="60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gitální učební materiá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315200" cy="1601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41911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jenecké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5334120"/>
            <a:ext cx="36576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gr. Zuzana Čí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d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29005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62520" y="1905120"/>
            <a:ext cx="1066680" cy="10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55640" y="404280"/>
            <a:ext cx="8229600" cy="62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RAKOVÉ VNÍMÁN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6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ustředění, sledování předmětů v pohybu, rozeznávání osob,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6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var (nejprve nerozlišuje, pak délka a šířka, v 9.měs.  až hloubk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6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rvy (plně vyvinuto u 4.měs., upřednostňuje: </a:t>
            </a:r>
            <a:r>
              <a:rPr b="0" lang="cs-CZ" sz="2400" spc="-1" strike="noStrike">
                <a:solidFill>
                  <a:srgbClr val="3399ff"/>
                </a:solidFill>
                <a:latin typeface="Arial"/>
              </a:rPr>
              <a:t>modr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červen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žlut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99cc00"/>
                </a:solidFill>
                <a:latin typeface="Arial"/>
              </a:rPr>
              <a:t>zelená, </a:t>
            </a:r>
            <a:r>
              <a:rPr b="0" lang="cs-CZ" sz="2400" spc="-1" strike="noStrike">
                <a:solidFill>
                  <a:srgbClr val="969696"/>
                </a:solidFill>
                <a:latin typeface="Arial"/>
              </a:rPr>
              <a:t>šed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LUCHOVÉ VNÍMÁN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6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edá zdroj zvuku,rozlišuje známé hlas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6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7-8.měs slovo zvukový podnět – rozvoj porozum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914400" y="83664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MATOVÉ VNÍMÁN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formace při dotyk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ány hmatu (ústa, kůž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HUŤOVÉ A ČICHOVÉ VNÍMÁN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okonaluje rozlišování a rozšiřuje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eference sladké a později i slané hu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1219320"/>
            <a:ext cx="2819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755640" y="404640"/>
            <a:ext cx="8229600" cy="56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Myšlen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zce souvisí s rozvojem vnímání, motorickou aktivitou a manipulační čin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KONKRÉTNÍ MYŠL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praktick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. Paměť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zce souvisí s myšle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Znovupozná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totožnost dříve poznaného podnět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ývoj řeč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spcBef>
                <a:spcPts val="799"/>
              </a:spcBef>
              <a:buClr>
                <a:srgbClr val="ff33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stádium: </a:t>
            </a:r>
            <a:r>
              <a:rPr b="1" lang="cs-CZ" sz="3200" spc="-1" strike="noStrike">
                <a:solidFill>
                  <a:srgbClr val="ff3300"/>
                </a:solidFill>
                <a:latin typeface="Arial"/>
              </a:rPr>
              <a:t>PŘEDŘEČ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křiku k neartikulovaným zvukům a vokalizaci (brouk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stádium: </a:t>
            </a:r>
            <a:r>
              <a:rPr b="1" lang="cs-CZ" sz="3200" spc="-1" strike="noStrike">
                <a:solidFill>
                  <a:srgbClr val="ff3300"/>
                </a:solidFill>
                <a:latin typeface="Arial"/>
              </a:rPr>
              <a:t>POROZUMĚNÍ SLOVŮ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.měs výrazná artikulace bez smyslu (žvatlání), vytváří se řečový kanál a to vytvářením spojení (asoci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3. stádium: </a:t>
            </a:r>
            <a:r>
              <a:rPr b="1" lang="cs-CZ" sz="3200" spc="-1" strike="noStrike">
                <a:solidFill>
                  <a:srgbClr val="ff3300"/>
                </a:solidFill>
                <a:latin typeface="Arial"/>
              </a:rPr>
              <a:t>TVOŘENÍ SL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věr 1. roku, umí říct 2 – 3 sl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edřečové období – kojenec 7 týdn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206064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4560" y="2565360"/>
            <a:ext cx="457200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0010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Emocionální a sociální vývoj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640" y="1650960"/>
            <a:ext cx="82296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epjatost emocí s uspokojováním potřeb je těsn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emocionální projev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stav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celkového vzruš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Diferenciace emocí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kladné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radost, spokojenost, dobrá nála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záporné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strach, hněv, nejistota, ztráta bezpečí, pláč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První úsmě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sociální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lidský obličej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Socializa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692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eznámení s blízkou osobou (matk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Separační úzk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čekávání vůči jiným lid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Prostředk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mocionální komun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rakový kont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yzický kontakt s dospělý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sový a řečový kont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ast všech smys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voj sebepoznávání a srovná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67280" y="3276720"/>
            <a:ext cx="3048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3526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677520"/>
            <a:ext cx="79246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odmínky pro správný vývoj kojenc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ánek a bd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třeba nasycení (kojení, krme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třeba čisto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třeba tep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třeba činnosti, podnětů, h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HR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ůležitá účast dospělé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cs-CZ" sz="3200" spc="-1" strike="noStrike">
                <a:solidFill>
                  <a:srgbClr val="ff3300"/>
                </a:solidFill>
                <a:latin typeface="Arial"/>
              </a:rPr>
              <a:t>FUNKČNÍ HR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lastní tělo, vnímání okol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ff3300"/>
                </a:solidFill>
                <a:latin typeface="Arial"/>
              </a:rPr>
              <a:t>MANIPULAČNÍ HR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aměřená na předměty, vývoj jemné motor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ff3300"/>
                </a:solidFill>
                <a:latin typeface="Arial"/>
              </a:rPr>
              <a:t>SOCIÁLNÍ HR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reagují činnosti a přítomnost dospělého, souroz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vtipné situace, řečové, pohybové, škádlivk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53341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ava v kojeneckém obdob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jení – výhradně mléčná strava do 5-6 měsíce (výhody kojení), náhradní mléčná výž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5-7 měsíce období mléčných přídavků (masozeleninových, ovocnomléčné, pečivo) = Smíšená kojenecká st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42840" y="1889280"/>
            <a:ext cx="3429000" cy="3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gitální učební materi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315200" cy="1601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91320" y="1752480"/>
            <a:ext cx="609480" cy="60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304920" y="2357280"/>
          <a:ext cx="8611920" cy="4438800"/>
        </p:xfrm>
        <a:graphic>
          <a:graphicData uri="http://schemas.openxmlformats.org/drawingml/2006/table">
            <a:tbl>
              <a:tblPr/>
              <a:tblGrid>
                <a:gridCol w="2514600"/>
                <a:gridCol w="6097320"/>
              </a:tblGrid>
              <a:tr h="345960">
                <a:tc>
                  <a:txBody>
                    <a:bodyPr lIns="90000" rIns="90000" tIns="84960" bIns="46800" anchor="ctr">
                      <a:noAutofit/>
                    </a:bodyPr>
                    <a:p>
                      <a:pPr>
                        <a:lnSpc>
                          <a:spcPct val="8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íslo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49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.1.07/1.5.00/34.06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84960" bIns="46800" anchor="ctr">
                      <a:noAutofit/>
                    </a:bodyPr>
                    <a:p>
                      <a:pPr>
                        <a:lnSpc>
                          <a:spcPct val="8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ev progra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49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 1.5 Vzdělávání pro konkurenceschopno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84960" bIns="46800" anchor="ctr">
                      <a:noAutofit/>
                    </a:bodyPr>
                    <a:p>
                      <a:pPr>
                        <a:lnSpc>
                          <a:spcPct val="8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e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49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ovace vzdělávacího proces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84960" bIns="46800" anchor="ctr">
                      <a:noAutofit/>
                    </a:bodyPr>
                    <a:p>
                      <a:pPr>
                        <a:lnSpc>
                          <a:spcPct val="8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íslo materiál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49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_32_INOVACE-3-7-PSL-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0000" rIns="90000" tIns="80280" bIns="46800" anchor="ctr">
                      <a:noAutofit/>
                    </a:bodyPr>
                    <a:p>
                      <a:pPr>
                        <a:lnSpc>
                          <a:spcPct val="8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02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ní zdravotnická škola, Brno, Jaselská 7/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0000" rIns="90000" tIns="80280" bIns="46800" anchor="ctr">
                      <a:noAutofit/>
                    </a:bodyPr>
                    <a:p>
                      <a:pPr>
                        <a:lnSpc>
                          <a:spcPct val="8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02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r. Zuzana Číkov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0000" rIns="90000" tIns="80280" bIns="46800" anchor="ctr">
                      <a:noAutofit/>
                    </a:bodyPr>
                    <a:p>
                      <a:pPr>
                        <a:lnSpc>
                          <a:spcPct val="8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zdělávací obl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02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sycholog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0000" rIns="90000" tIns="80280" bIns="46800" anchor="ctr">
                      <a:noAutofit/>
                    </a:bodyPr>
                    <a:p>
                      <a:pPr>
                        <a:lnSpc>
                          <a:spcPct val="8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ématická obl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02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vojová psycholog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84960" bIns="46800" anchor="ctr">
                      <a:noAutofit/>
                    </a:bodyPr>
                    <a:p>
                      <a:pPr>
                        <a:lnSpc>
                          <a:spcPct val="8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é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49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jenecké obdob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0000" rIns="90000" tIns="80280" bIns="46800" anchor="ctr">
                      <a:noAutofit/>
                    </a:bodyPr>
                    <a:p>
                      <a:pPr>
                        <a:lnSpc>
                          <a:spcPct val="8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02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0000" rIns="90000" tIns="80280" bIns="46800" anchor="ctr">
                      <a:noAutofit/>
                    </a:bodyPr>
                    <a:p>
                      <a:pPr>
                        <a:lnSpc>
                          <a:spcPct val="8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um tvor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02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ledna 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84960" bIns="46800" anchor="ctr">
                      <a:noAutofit/>
                    </a:bodyPr>
                    <a:p>
                      <a:pPr>
                        <a:lnSpc>
                          <a:spcPct val="8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ot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24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M obsahuje kognitivní a somatický vývoj dítěte v kojeneckém období a vliv sociálního prostředí na rozvoj koj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84960" bIns="46800" anchor="ctr">
                      <a:noAutofit/>
                    </a:bodyPr>
                    <a:p>
                      <a:pPr>
                        <a:lnSpc>
                          <a:spcPct val="8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odický poky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24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čební materiál je vhodný pro prvotní seznámení s učivem, lze jej využít pro výklad i aktivizační metody uče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atologický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60804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60804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6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0804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myslové vady, především sluch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6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0804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eparační úzk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6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0804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rakové v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6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0804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žívací potíže spojené s intolerancí mléka, lep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ýznam rodinného prostředí při výchově koj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229600" cy="50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spokojování biologických, psychických a sociálních potřeb (dostatek citových, smyslových a řečových podnětů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chovné problémy a zlozvyk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dloužené a špatné usín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umlání prs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dměrná plačtiv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lozvyky při jí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484280"/>
            <a:ext cx="838188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ELNAROVÁ, Jarmila, MATĚJKOVÁ, Eva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sychologie 1. díl Pro studenty zdravotnických obor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raha: Grada Publishing, 2010. 162 s. ISBN 978-80-247-3270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TEFANOVIČ, Jozef a Jaroslav GREISINGER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sych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1. vyd. Praha: Avicenum, zdravotnické nakladatelství, 1985. 256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ANGMEIER, Josef a Dana KREJČÍŘOVÁ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Vývojová psych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3. přeprac. a dopl. vyd. Praha: Grada, 1998, 343 s., obr. ISBN 80-716-9195-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KIEDROŇOVÁ, Eva. Rozvíjej se, děťátko--: moderní poznatky o významu správné stimulace kojence v souladu s jeho psychomotorickou vyspělostí. Vyd. 1. Praha: Grada, 2010, 379 s. Šťastné dítě (Grada). ISBN 978-80-247-3744-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brázky z vlastní fotodokumen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cikova@szs-jaselska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Impact"/>
              </a:rPr>
              <a:t>Kojenecké obdob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31800" y="1730520"/>
            <a:ext cx="554364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jenecké obdob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229600" cy="47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sno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6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arakteris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6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motoriky (lokomoce, hrubá motorika, jemná motori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6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gnitivní vývoj (smyslové vnímání, pozornost, paměť, myšlení. Představiv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6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řečové období a ře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6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al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6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6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tologický výv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čebnice Psychologie 1. díl str. 72 -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Charakteristik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konce 1. měsíce do konce 1. r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udký rů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yšování tělesné hmo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měny tělesných poměrů tě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prava k přemisťování ve vzpřímené polo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vědomělé uchopování předmě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vození specifického citového a sociálního vzta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ělesný vývoj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ůst ko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rovnoměrnost proporcí tě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ychlý rozvoj a ustalování funkcí všech orgánových soust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Hrubá motorik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sahují bohatou mnohotvárnost poloh a jejich změ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Uplatňování zákon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601"/>
              </a:spcBef>
              <a:buNone/>
              <a:tabLst>
                <a:tab algn="l" pos="0"/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FALOKAUDÁLNÍ SMĚR VÝV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601"/>
              </a:spcBef>
              <a:buNone/>
              <a:tabLst>
                <a:tab algn="l" pos="0"/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XIMODISTÁLNÍ SMĚR VÝVÝ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vracení na bok, záda, bři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a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azení, k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o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ů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Jemná motorik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ůležitějším orgánem pro zpracování poznatků je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uk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ítě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Uplatňuje se zák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LNORADIÁLNÍHO SMĚRU VÝV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voj podporuje praxe, častá aktivita s přiměřenými předměty a hračk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Vývoj poznávacích procesů: (kognitivní vývoj - KV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znávací aktivity mají u kojence senzorický charakter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vnímání i motorik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myslové vnímán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myslové orgány jsou připravené k činnosti od okamžiku naro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rozlišovat má různou kvalitu a síla jednotlivých analyzátorů se postupně zdokonal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mínkou je dostatečná stimulace přiměřená vě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valoskova</cp:lastModifiedBy>
  <dcterms:modified xsi:type="dcterms:W3CDTF">2013-04-05T06:36:30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