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360" y="-15292440"/>
            <a:ext cx="360" cy="159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65ACC-E83B-4FDD-8847-5C698F4BEE46}" type="slidenum">
              <a:rPr b="0" lang="cs-CZ" sz="1800" spc="-1" strike="noStrike">
                <a:solidFill>
                  <a:srgbClr val="ffffff"/>
                </a:solidFill>
                <a:latin typeface="Perpetu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9CA3-DD16-4241-9F8D-31CF60F7F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F02B-9F2A-4869-8C86-AF2784500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74DE-51CB-4BE5-A8F0-B62A78CC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8A18-3E13-41C8-9897-2A26A4DAC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1148-6236-432F-B77A-682E1AFB61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DAD9-9D4E-4EAF-84B8-7A14A99308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19C9-ADA1-4816-B5B6-04C0BCE5D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D2E1-9855-4FC6-898B-2A439B664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6ABD-2C13-4B55-A270-68081CC21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A280-970F-4F47-B79F-A306CE37B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5F5C-6A81-46BF-B8E1-CC0416BFF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3FFD-92C3-44D5-A5DE-ACD255616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12D2-7DE9-4CD2-B8DD-4085F244D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BD80-E479-44C8-97F1-F04CD35A3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31AB-E180-407B-89E6-7150D23D28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6ADA-280A-4CD6-A1E9-04013CA9E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4E81-6715-48C1-9D76-8C55C52472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BB4-FB74-4BDD-B18B-098CC94CB8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C27-8C5B-4F2F-8C96-617421FF44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4A6-2E39-4C75-891E-65EB1ADDD3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4AC-9A58-41FB-AED2-B80DECF285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621-A61C-4574-83C5-FCDE9CA23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C812-0176-4A7D-A37A-BCA9A58B2B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DC5-1E27-48CB-98AD-22EE8F907C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F2F-A2EE-4572-80A4-D6B96E1EE5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B3C-1071-4636-853D-1145AA08F6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5F4-F729-4C40-8320-06B4D4211F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D62-B564-48C7-8ED9-A9B6EB62D1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1B8-22B1-41CF-A1DA-033784AE13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581-93FA-4F15-87FA-3DC41778A6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2FEF-BBAD-4F60-937E-F02FEC179E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B342-E4EB-4509-9CC3-D2664CAB52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056C3-3DC0-4AA1-84EF-2F02C994C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6FFB-A7A7-4ACF-BAC9-E94A68C682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36F4-C712-44DF-BD09-5498B8D339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6CE67-888F-409F-9EAD-D74D446789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42DA6-6EB4-4D7C-BE5B-F86DDF8CFD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D952-0F57-4E3B-86A2-31907DD038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9D21-6511-4A28-A190-0B02B3707E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FCAFD-BC1E-4186-BAF7-D0A8C8B520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4EF84-C80B-4AFF-96A3-089733DA66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A7F19-A350-4BB5-B576-F4D103C16B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A66F3-82C4-4AE6-9D94-93F49A3D6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F81F-2C3D-40DE-B96C-F83C650BB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978C-A159-4772-8843-CB0B5589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7473-F1E3-4FB2-AD4E-AE0F0DBC9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00A0-BA8E-4D21-A1C5-C9DB37CA8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A0C7-F999-4FB4-A033-DF4274CE5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57240"/>
            <a:ext cx="77677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776772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617220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12760" y="6276960"/>
            <a:ext cx="318960" cy="3189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6B2F6-4D5C-482E-B104-0F078D7E14C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7" name="Rectangle 3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57240"/>
            <a:ext cx="77677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776772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7220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212760" y="6275520"/>
            <a:ext cx="318960" cy="3189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8C8007-3F30-4CB0-952A-D33E29CBE2F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0A9ACE-56EF-4F8C-962C-9D0B53C6ABF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6021360"/>
            <a:ext cx="68436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1A5420-6AD4-4B67-A8A1-EE6BA22971E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6/Asterias.sv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opix.com/ssspecies.aspx?species=Holothuria%20edulis&amp;photoid=40722" TargetMode="External"/><Relationship Id="rId2" Type="http://schemas.openxmlformats.org/officeDocument/2006/relationships/hyperlink" Target="http://www.biopix.com/ssspecies.aspx?species=Holothuria%20edulis&amp;photoid=40722" TargetMode="External"/><Relationship Id="rId3" Type="http://schemas.openxmlformats.org/officeDocument/2006/relationships/hyperlink" Target="http://www.biopix.com/plate.asp?photos=JCS%20Holothuria%20edulis%2034924.jpg$JCS%20Holothuria%20edulis%2034925.jpg" TargetMode="External"/><Relationship Id="rId4" Type="http://schemas.openxmlformats.org/officeDocument/2006/relationships/hyperlink" Target="http://www.biopix.com/zoom.aspx?photoid=40722" TargetMode="External"/><Relationship Id="rId5" Type="http://schemas.openxmlformats.org/officeDocument/2006/relationships/hyperlink" Target="http://www.biopix.com/zoom.aspx?photoid=40722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ymtri.trinec.org/index.php?option=com_content&amp;view=article&amp;id=140:ostnokoci&amp;catid=18:zoologie&amp;Itemid=21" TargetMode="External"/><Relationship Id="rId2" Type="http://schemas.openxmlformats.org/officeDocument/2006/relationships/hyperlink" Target="http://gymtri.trinec.org/index.php?option=com_content&amp;view=article&amp;id=140:ostnokoci&amp;catid=18:zoologie&amp;Itemid=21" TargetMode="External"/><Relationship Id="rId3" Type="http://schemas.openxmlformats.org/officeDocument/2006/relationships/hyperlink" Target="http://gymtri.trinec.org/index.php?option=com_content&amp;view=article&amp;id=140:ostnokoci&amp;catid=18:zoologie&amp;Itemid=21" TargetMode="External"/><Relationship Id="rId4" Type="http://schemas.openxmlformats.org/officeDocument/2006/relationships/hyperlink" Target="http://gymtri.trinec.org/index.php?option=com_content&amp;view=article&amp;id=140:ostnokoci&amp;catid=18:zoologie&amp;Itemid=21" TargetMode="External"/><Relationship Id="rId5" Type="http://schemas.openxmlformats.org/officeDocument/2006/relationships/hyperlink" Target="http://gymtri.trinec.org/index.php?option=com_content&amp;view=article&amp;id=140:ostnokoci&amp;catid=18:zoologie&amp;Itemid=21" TargetMode="External"/><Relationship Id="rId6" Type="http://schemas.openxmlformats.org/officeDocument/2006/relationships/hyperlink" Target="http://gymtri.trinec.org/index.php?option=com_content&amp;view=article&amp;id=140:ostnokoci&amp;catid=18:zoologie&amp;Itemid=21" TargetMode="External"/><Relationship Id="rId7" Type="http://schemas.openxmlformats.org/officeDocument/2006/relationships/hyperlink" Target="http://gymtri.trinec.org/index.php?option=com_content&amp;view=article&amp;id=140:ostnokoci&amp;catid=18:zoologie&amp;Itemid=21" TargetMode="External"/><Relationship Id="rId8" Type="http://schemas.openxmlformats.org/officeDocument/2006/relationships/hyperlink" Target="http://gymtri.trinec.org/index.php?option=com_content&amp;view=article&amp;id=140:ostnokoci&amp;catid=18:zoologie&amp;Itemid=21" TargetMode="External"/><Relationship Id="rId9" Type="http://schemas.openxmlformats.org/officeDocument/2006/relationships/hyperlink" Target="http://gymtri.trinec.org/index.php?option=com_content&amp;view=article&amp;id=140:ostnokoci&amp;catid=18:zoologie&amp;Itemid=21" TargetMode="External"/><Relationship Id="rId10" Type="http://schemas.openxmlformats.org/officeDocument/2006/relationships/hyperlink" Target="http://gymtri.trinec.org/index.php?option=com_content&amp;view=article&amp;id=140:ostnokoci&amp;catid=18:zoologie&amp;Itemid=21" TargetMode="External"/><Relationship Id="rId11" Type="http://schemas.openxmlformats.org/officeDocument/2006/relationships/hyperlink" Target="http://gymtri.trinec.org/index.php?option=com_content&amp;view=article&amp;id=140:ostnokoci&amp;catid=18:zoologie&amp;Itemid=21" TargetMode="External"/><Relationship Id="rId12" Type="http://schemas.openxmlformats.org/officeDocument/2006/relationships/hyperlink" Target="http://gymtri.trinec.org/index.php?option=com_content&amp;view=article&amp;id=140:ostnokoci&amp;catid=18:zoologie&amp;Itemid=21" TargetMode="External"/><Relationship Id="rId13" Type="http://schemas.openxmlformats.org/officeDocument/2006/relationships/hyperlink" Target="http://gymtri.trinec.org/index.php?option=com_content&amp;view=article&amp;id=140:ostnokoci&amp;catid=18:zoologie&amp;Itemid=21" TargetMode="External"/><Relationship Id="rId14" Type="http://schemas.openxmlformats.org/officeDocument/2006/relationships/hyperlink" Target="http://gymtri.trinec.org/index.php?option=com_content&amp;view=article&amp;id=140:ostnokoci&amp;catid=18:zoologie&amp;Itemid=21" TargetMode="External"/><Relationship Id="rId15" Type="http://schemas.openxmlformats.org/officeDocument/2006/relationships/hyperlink" Target="http://gymtri.trinec.org/index.php?option=com_content&amp;view=article&amp;id=140:ostnokoci&amp;catid=18:zoologie&amp;Itemid=21" TargetMode="External"/><Relationship Id="rId16" Type="http://schemas.openxmlformats.org/officeDocument/2006/relationships/hyperlink" Target="http://gymtri.trinec.org/index.php?option=com_content&amp;view=article&amp;id=140:ostnokoci&amp;catid=18:zoologie&amp;Itemid=21" TargetMode="External"/><Relationship Id="rId17" Type="http://schemas.openxmlformats.org/officeDocument/2006/relationships/hyperlink" Target="http://gymtri.trinec.org/index.php?option=com_content&amp;view=article&amp;id=140:ostnokoci&amp;catid=18:zoologie&amp;Itemid=21" TargetMode="External"/><Relationship Id="rId18" Type="http://schemas.openxmlformats.org/officeDocument/2006/relationships/hyperlink" Target="http://gymtri.trinec.org/index.php?option=com_content&amp;view=article&amp;id=140:ostnokoci&amp;catid=18:zoologie&amp;Itemid=21" TargetMode="External"/><Relationship Id="rId19" Type="http://schemas.openxmlformats.org/officeDocument/2006/relationships/hyperlink" Target="http://gymtri.trinec.org/index.php?option=com_content&amp;view=article&amp;id=140:ostnokoci&amp;catid=18:zoologie&amp;Itemid=21" TargetMode="External"/><Relationship Id="rId20" Type="http://schemas.openxmlformats.org/officeDocument/2006/relationships/hyperlink" Target="http://gymtri.trinec.org/index.php?option=com_content&amp;view=article&amp;id=140:ostnokoci&amp;catid=18:zoologie&amp;Itemid=21" TargetMode="External"/><Relationship Id="rId21" Type="http://schemas.openxmlformats.org/officeDocument/2006/relationships/hyperlink" Target="http://gymtri.trinec.org/index.php?option=com_content&amp;view=article&amp;id=140:ostnokoci&amp;catid=18:zoologie&amp;Itemid=21" TargetMode="External"/><Relationship Id="rId22" Type="http://schemas.openxmlformats.org/officeDocument/2006/relationships/hyperlink" Target="http://gymtri.trinec.org/index.php?option=com_content&amp;view=article&amp;id=140:ostnokoci&amp;catid=18:zoologie&amp;Itemid=21" TargetMode="External"/><Relationship Id="rId23" Type="http://schemas.openxmlformats.org/officeDocument/2006/relationships/hyperlink" Target="http://gymtri.trinec.org/index.php?option=com_content&amp;view=article&amp;id=140:ostnokoci&amp;catid=18:zoologie&amp;Itemid=21" TargetMode="External"/><Relationship Id="rId24" Type="http://schemas.openxmlformats.org/officeDocument/2006/relationships/hyperlink" Target="http://gymtri.trinec.org/index.php?option=com_content&amp;view=article&amp;id=140:ostnokoci&amp;catid=18:zoologie&amp;Itemid=21" TargetMode="External"/><Relationship Id="rId25" Type="http://schemas.openxmlformats.org/officeDocument/2006/relationships/hyperlink" Target="http://gymtri.trinec.org/index.php?option=com_content&amp;view=article&amp;id=140:ostnokoci&amp;catid=18:zoologie&amp;Itemid=21" TargetMode="External"/><Relationship Id="rId26" Type="http://schemas.openxmlformats.org/officeDocument/2006/relationships/hyperlink" Target="http://commons.wikimedia.org/wiki/File:Asterias.svg" TargetMode="External"/><Relationship Id="rId27" Type="http://schemas.openxmlformats.org/officeDocument/2006/relationships/hyperlink" Target="http://commons.wikimedia.org/wiki/File:Asterias.svg" TargetMode="External"/><Relationship Id="rId28" Type="http://schemas.openxmlformats.org/officeDocument/2006/relationships/hyperlink" Target="http://commons.wikimedia.org/wiki/File:Asterias.svg" TargetMode="External"/><Relationship Id="rId29" Type="http://schemas.openxmlformats.org/officeDocument/2006/relationships/hyperlink" Target="http://commons.wikimedia.org/wiki/File:Asterias.svg" TargetMode="External"/><Relationship Id="rId30" Type="http://schemas.openxmlformats.org/officeDocument/2006/relationships/hyperlink" Target="http://commons.wikimedia.org/wiki/File:Asterias.svg" TargetMode="External"/><Relationship Id="rId31" Type="http://schemas.openxmlformats.org/officeDocument/2006/relationships/hyperlink" Target="http://commons.wikimedia.org/wiki/File:Asterias.svg" TargetMode="External"/><Relationship Id="rId32" Type="http://schemas.openxmlformats.org/officeDocument/2006/relationships/hyperlink" Target="http://commons.wikimedia.org/wiki/File:Asterias.svg" TargetMode="External"/><Relationship Id="rId33" Type="http://schemas.openxmlformats.org/officeDocument/2006/relationships/hyperlink" Target="http://commons.wikimedia.org/wiki/File:Asterias.svg" TargetMode="External"/><Relationship Id="rId34" Type="http://schemas.openxmlformats.org/officeDocument/2006/relationships/hyperlink" Target="http://commons.wikimedia.org/wiki/File:Asterias.svg" TargetMode="External"/><Relationship Id="rId35" Type="http://schemas.openxmlformats.org/officeDocument/2006/relationships/hyperlink" Target="http://commons.wikimedia.org/wiki/File:Asterias.svg" TargetMode="External"/><Relationship Id="rId36" Type="http://schemas.openxmlformats.org/officeDocument/2006/relationships/hyperlink" Target="http://commons.wikimedia.org/wiki/File:Asterias.svg" TargetMode="External"/><Relationship Id="rId37" Type="http://schemas.openxmlformats.org/officeDocument/2006/relationships/hyperlink" Target="http://commons.wikimedia.org/wiki/File:Asterias.svg" TargetMode="External"/><Relationship Id="rId38" Type="http://schemas.openxmlformats.org/officeDocument/2006/relationships/hyperlink" Target="http://commons.wikimedia.org/wiki/File:Asterias.svg" TargetMode="External"/><Relationship Id="rId39" Type="http://schemas.openxmlformats.org/officeDocument/2006/relationships/hyperlink" Target="http://commons.wikimedia.org/wiki/File:Asterias.svg" TargetMode="External"/><Relationship Id="rId40" Type="http://schemas.openxmlformats.org/officeDocument/2006/relationships/hyperlink" Target="http://commons.wikimedia.org/wiki/File:Asterias.svg" TargetMode="External"/><Relationship Id="rId41" Type="http://schemas.openxmlformats.org/officeDocument/2006/relationships/hyperlink" Target="http://commons.wikimedia.org/wiki/File:Erizo_de_mar.2_-_Coru&#241;a.JPG" TargetMode="External"/><Relationship Id="rId42" Type="http://schemas.openxmlformats.org/officeDocument/2006/relationships/hyperlink" Target="http://commons.wikimedia.org/wiki/File:Erizo_de_mar.2_-_Coru&#241;a.JPG" TargetMode="External"/><Relationship Id="rId43" Type="http://schemas.openxmlformats.org/officeDocument/2006/relationships/hyperlink" Target="http://commons.wikimedia.org/wiki/File:Erizo_de_mar.2_-_Coru&#241;a.JPG" TargetMode="External"/><Relationship Id="rId44" Type="http://schemas.openxmlformats.org/officeDocument/2006/relationships/hyperlink" Target="http://commons.wikimedia.org/wiki/File:Erizo_de_mar.2_-_Coru&#241;a.JPG" TargetMode="External"/><Relationship Id="rId45" Type="http://schemas.openxmlformats.org/officeDocument/2006/relationships/hyperlink" Target="http://commons.wikimedia.org/wiki/File:Erizo_de_mar.2_-_Coru&#241;a.JPG" TargetMode="External"/><Relationship Id="rId46" Type="http://schemas.openxmlformats.org/officeDocument/2006/relationships/hyperlink" Target="http://commons.wikimedia.org/wiki/File:Erizo_de_mar.2_-_Coru&#241;a.JPG" TargetMode="External"/><Relationship Id="rId47" Type="http://schemas.openxmlformats.org/officeDocument/2006/relationships/hyperlink" Target="http://commons.wikimedia.org/wiki/File:Erizo_de_mar.2_-_Coru&#241;a.JPG" TargetMode="External"/><Relationship Id="rId48" Type="http://schemas.openxmlformats.org/officeDocument/2006/relationships/hyperlink" Target="http://commons.wikimedia.org/wiki/File:Erizo_de_mar.2_-_Coru&#241;a.JPG" TargetMode="External"/><Relationship Id="rId49" Type="http://schemas.openxmlformats.org/officeDocument/2006/relationships/hyperlink" Target="http://commons.wikimedia.org/wiki/File:Erizo_de_mar.2_-_Coru&#241;a.JPG" TargetMode="External"/><Relationship Id="rId50" Type="http://schemas.openxmlformats.org/officeDocument/2006/relationships/hyperlink" Target="http://commons.wikimedia.org/wiki/File:Erizo_de_mar.2_-_Coru&#241;a.JPG" TargetMode="External"/><Relationship Id="rId51" Type="http://schemas.openxmlformats.org/officeDocument/2006/relationships/hyperlink" Target="http://commons.wikimedia.org/wiki/File:Erizo_de_mar.2_-_Coru&#241;a.JPG" TargetMode="External"/><Relationship Id="rId52" Type="http://schemas.openxmlformats.org/officeDocument/2006/relationships/hyperlink" Target="http://commons.wikimedia.org/wiki/File:Erizo_de_mar.2_-_Coru&#241;a.JPG" TargetMode="External"/><Relationship Id="rId53" Type="http://schemas.openxmlformats.org/officeDocument/2006/relationships/hyperlink" Target="http://commons.wikimedia.org/wiki/File:Erizo_de_mar.2_-_Coru&#241;a.JPG" TargetMode="External"/><Relationship Id="rId54" Type="http://schemas.openxmlformats.org/officeDocument/2006/relationships/hyperlink" Target="http://commons.wikimedia.org/wiki/File:Erizo_de_mar.2_-_Coru&#241;a.JPG" TargetMode="External"/><Relationship Id="rId55" Type="http://schemas.openxmlformats.org/officeDocument/2006/relationships/hyperlink" Target="http://commons.wikimedia.org/wiki/File:Erizo_de_mar.2_-_Coru&#241;a.JPG" TargetMode="External"/><Relationship Id="rId56" Type="http://schemas.openxmlformats.org/officeDocument/2006/relationships/hyperlink" Target="http://commons.wikimedia.org/wiki/File:Erizo_de_mar.2_-_Coru&#241;a.JPG" TargetMode="External"/><Relationship Id="rId57" Type="http://schemas.openxmlformats.org/officeDocument/2006/relationships/hyperlink" Target="http://commons.wikimedia.org/wiki/File:Erizo_de_mar.2_-_Coru&#241;a.JPG" TargetMode="External"/><Relationship Id="rId58" Type="http://schemas.openxmlformats.org/officeDocument/2006/relationships/hyperlink" Target="http://commons.wikimedia.org/wiki/File:Erizo_de_mar.2_-_Coru&#241;a.JPG" TargetMode="External"/><Relationship Id="rId59" Type="http://schemas.openxmlformats.org/officeDocument/2006/relationships/hyperlink" Target="http://cs.wikipedia.org/wiki/Soubor:Strongylocentrotus_purpuratus_P1160330.jpg" TargetMode="External"/><Relationship Id="rId60" Type="http://schemas.openxmlformats.org/officeDocument/2006/relationships/hyperlink" Target="http://cs.wikipedia.org/wiki/Soubor:Strongylocentrotus_purpuratus_P1160330.jpg" TargetMode="External"/><Relationship Id="rId61" Type="http://schemas.openxmlformats.org/officeDocument/2006/relationships/hyperlink" Target="http://cs.wikipedia.org/wiki/Soubor:Strongylocentrotus_purpuratus_P1160330.jpg" TargetMode="External"/><Relationship Id="rId62" Type="http://schemas.openxmlformats.org/officeDocument/2006/relationships/hyperlink" Target="http://cs.wikipedia.org/wiki/Soubor:Strongylocentrotus_purpuratus_P1160330.jpg" TargetMode="External"/><Relationship Id="rId63" Type="http://schemas.openxmlformats.org/officeDocument/2006/relationships/hyperlink" Target="http://cs.wikipedia.org/wiki/Soubor:Strongylocentrotus_purpuratus_P1160330.jpg" TargetMode="External"/><Relationship Id="rId64" Type="http://schemas.openxmlformats.org/officeDocument/2006/relationships/hyperlink" Target="http://cs.wikipedia.org/wiki/Soubor:Strongylocentrotus_purpuratus_P1160330.jpg" TargetMode="External"/><Relationship Id="rId65" Type="http://schemas.openxmlformats.org/officeDocument/2006/relationships/hyperlink" Target="http://cs.wikipedia.org/wiki/Soubor:Strongylocentrotus_purpuratus_P1160330.jpg" TargetMode="External"/><Relationship Id="rId66" Type="http://schemas.openxmlformats.org/officeDocument/2006/relationships/hyperlink" Target="http://cs.wikipedia.org/wiki/Soubor:Strongylocentrotus_purpuratus_P1160330.jpg" TargetMode="External"/><Relationship Id="rId67" Type="http://schemas.openxmlformats.org/officeDocument/2006/relationships/hyperlink" Target="http://cs.wikipedia.org/wiki/Soubor:Strongylocentrotus_purpuratus_P1160330.jpg" TargetMode="External"/><Relationship Id="rId68" Type="http://schemas.openxmlformats.org/officeDocument/2006/relationships/hyperlink" Target="http://cs.wikipedia.org/wiki/Soubor:Strongylocentrotus_purpuratus_P1160330.jpg" TargetMode="External"/><Relationship Id="rId69" Type="http://schemas.openxmlformats.org/officeDocument/2006/relationships/hyperlink" Target="http://cs.wikipedia.org/wiki/Soubor:Strongylocentrotus_purpuratus_P1160330.jpg" TargetMode="External"/><Relationship Id="rId70" Type="http://schemas.openxmlformats.org/officeDocument/2006/relationships/hyperlink" Target="http://cs.wikipedia.org/wiki/Soubor:Strongylocentrotus_purpuratus_P1160330.jpg" TargetMode="External"/><Relationship Id="rId71" Type="http://schemas.openxmlformats.org/officeDocument/2006/relationships/hyperlink" Target="http://cs.wikipedia.org/wiki/Soubor:Strongylocentrotus_purpuratus_P1160330.jpg" TargetMode="External"/><Relationship Id="rId72" Type="http://schemas.openxmlformats.org/officeDocument/2006/relationships/hyperlink" Target="http://cs.wikipedia.org/wiki/Soubor:Strongylocentrotus_purpuratus_P1160330.jpg" TargetMode="External"/><Relationship Id="rId73" Type="http://schemas.openxmlformats.org/officeDocument/2006/relationships/hyperlink" Target="http://cs.wikipedia.org/wiki/Soubor:Strongylocentrotus_purpuratus_P1160330.jpg" TargetMode="External"/><Relationship Id="rId74" Type="http://schemas.openxmlformats.org/officeDocument/2006/relationships/hyperlink" Target="http://www.youtube.com/watch?v=8JOxiT5_zpc&amp;list=PL18332FFCA30EDAVELLUTTINI,%20Bruno%20C.%20Echinopluteus" TargetMode="External"/><Relationship Id="rId75" Type="http://schemas.openxmlformats.org/officeDocument/2006/relationships/hyperlink" Target="http://www.youtube.com/watch?v=8JOxiT5_zpc&amp;list=PL18332FFCA30EDAVELLUTTINI,%20Bruno%20C.%20Echinopluteus" TargetMode="External"/><Relationship Id="rId76" Type="http://schemas.openxmlformats.org/officeDocument/2006/relationships/hyperlink" Target="http://www.youtube.com/watch?v=8JOxiT5_zpc&amp;list=PL18332FFCA30EDAVELLUTTINI,%20Bruno%20C.%20Echinopluteus" TargetMode="External"/><Relationship Id="rId77" Type="http://schemas.openxmlformats.org/officeDocument/2006/relationships/hyperlink" Target="http://www.youtube.com/watch?v=8JOxiT5_zpc&amp;list=PL18332FFCA30EDAVELLUTTINI,%20Bruno%20C.%20Echinopluteus" TargetMode="External"/><Relationship Id="rId78" Type="http://schemas.openxmlformats.org/officeDocument/2006/relationships/hyperlink" Target="http://www.youtube.com/watch?v=8JOxiT5_zpc&amp;list=PL18332FFCA30EDAVELLUTTINI,%20Bruno%20C.%20Echinopluteus" TargetMode="External"/><Relationship Id="rId79" Type="http://schemas.openxmlformats.org/officeDocument/2006/relationships/hyperlink" Target="http://www.youtube.com/watch?v=8JOxiT5_zpc&amp;list=PL18332FFCA30EDAVELLUTTINI,%20Bruno%20C.%20Echinopluteus" TargetMode="External"/><Relationship Id="rId80" Type="http://schemas.openxmlformats.org/officeDocument/2006/relationships/hyperlink" Target="http://www.youtube.com/watch?v=8JOxiT5_zpc&amp;list=PL18332FFCA30EDAVELLUTTINI,%20Bruno%20C.%20Echinopluteus" TargetMode="External"/><Relationship Id="rId81" Type="http://schemas.openxmlformats.org/officeDocument/2006/relationships/hyperlink" Target="http://www.youtube.com/watch?v=8JOxiT5_zpc&amp;list=PL18332FFCA30EDAVELLUTTINI,%20Bruno%20C.%20Echinopluteus" TargetMode="External"/><Relationship Id="rId82" Type="http://schemas.openxmlformats.org/officeDocument/2006/relationships/hyperlink" Target="http://www.youtube.com/watch?v=8JOxiT5_zpc&amp;list=PL18332FFCA30EDAVELLUTTINI,%20Bruno%20C.%20Echinopluteus" TargetMode="External"/><Relationship Id="rId83" Type="http://schemas.openxmlformats.org/officeDocument/2006/relationships/hyperlink" Target="http://www.youtube.com/watch?v=8JOxiT5_zpc&amp;list=PL18332FFCA30EDAVELLUTTINI,%20Bruno%20C.%20Echinopluteus" TargetMode="External"/><Relationship Id="rId84" Type="http://schemas.openxmlformats.org/officeDocument/2006/relationships/hyperlink" Target="http://commons.wikimedia.org/wiki/File:Echinopluteus_larva.jpg" TargetMode="External"/><Relationship Id="rId85" Type="http://schemas.openxmlformats.org/officeDocument/2006/relationships/hyperlink" Target="http://commons.wikimedia.org/wiki/File:Echinopluteus_larva.jpg" TargetMode="External"/><Relationship Id="rId86" Type="http://schemas.openxmlformats.org/officeDocument/2006/relationships/hyperlink" Target="http://commons.wikimedia.org/wiki/File:Echinopluteus_larva.jpg" TargetMode="External"/><Relationship Id="rId87" Type="http://schemas.openxmlformats.org/officeDocument/2006/relationships/hyperlink" Target="http://commons.wikimedia.org/wiki/File:Echinopluteus_larva.jpg" TargetMode="External"/><Relationship Id="rId88" Type="http://schemas.openxmlformats.org/officeDocument/2006/relationships/hyperlink" Target="http://commons.wikimedia.org/wiki/File:Echinopluteus_larva.jpg" TargetMode="External"/><Relationship Id="rId89" Type="http://schemas.openxmlformats.org/officeDocument/2006/relationships/hyperlink" Target="http://commons.wikimedia.org/wiki/File:Echinopluteus_larva.jpg" TargetMode="External"/><Relationship Id="rId90" Type="http://schemas.openxmlformats.org/officeDocument/2006/relationships/hyperlink" Target="http://commons.wikimedia.org/wiki/File:Echinopluteus_larva.jpg" TargetMode="External"/><Relationship Id="rId91" Type="http://schemas.openxmlformats.org/officeDocument/2006/relationships/hyperlink" Target="http://commons.wikimedia.org/wiki/File:Echinopluteus_larva.jpg" TargetMode="External"/><Relationship Id="rId92" Type="http://schemas.openxmlformats.org/officeDocument/2006/relationships/hyperlink" Target="http://commons.wikimedia.org/wiki/File:Echinopluteus_larva.jpg" TargetMode="External"/><Relationship Id="rId93" Type="http://schemas.openxmlformats.org/officeDocument/2006/relationships/hyperlink" Target="http://commons.wikimedia.org/wiki/File:Echinopluteus_larva.jpg" TargetMode="External"/><Relationship Id="rId94" Type="http://schemas.openxmlformats.org/officeDocument/2006/relationships/hyperlink" Target="http://commons.wikimedia.org/wiki/File:Echinopluteus_larva.jpg" TargetMode="External"/><Relationship Id="rId95" Type="http://schemas.openxmlformats.org/officeDocument/2006/relationships/hyperlink" Target="http://commons.wikimedia.org/wiki/File:Echinopluteus_larva.jpg" TargetMode="External"/><Relationship Id="rId96" Type="http://schemas.openxmlformats.org/officeDocument/2006/relationships/hyperlink" Target="http://commons.wikimedia.org/wiki/File:Echinopluteus_larva.jpg" TargetMode="External"/><Relationship Id="rId97" Type="http://schemas.openxmlformats.org/officeDocument/2006/relationships/hyperlink" Target="http://commons.wikimedia.org/wiki/File:Echinopluteus_larva.jpg" TargetMode="External"/><Relationship Id="rId98" Type="http://schemas.openxmlformats.org/officeDocument/2006/relationships/hyperlink" Target="http://commons.wikimedia.org/wiki/File:Echinopluteus_larva.jpg" TargetMode="External"/><Relationship Id="rId99" Type="http://schemas.openxmlformats.org/officeDocument/2006/relationships/hyperlink" Target="http://cs.wikipedia.org/wiki/Soubor:Featherx.JPG" TargetMode="External"/><Relationship Id="rId100" Type="http://schemas.openxmlformats.org/officeDocument/2006/relationships/hyperlink" Target="http://cs.wikipedia.org/wiki/Soubor:Featherx.JPG" TargetMode="External"/><Relationship Id="rId101" Type="http://schemas.openxmlformats.org/officeDocument/2006/relationships/hyperlink" Target="http://cs.wikipedia.org/wiki/Soubor:Featherx.JPG" TargetMode="External"/><Relationship Id="rId102" Type="http://schemas.openxmlformats.org/officeDocument/2006/relationships/hyperlink" Target="http://cs.wikipedia.org/wiki/Soubor:Featherx.JPG" TargetMode="External"/><Relationship Id="rId103" Type="http://schemas.openxmlformats.org/officeDocument/2006/relationships/hyperlink" Target="http://cs.wikipedia.org/wiki/Soubor:Featherx.JPG" TargetMode="External"/><Relationship Id="rId104" Type="http://schemas.openxmlformats.org/officeDocument/2006/relationships/hyperlink" Target="http://cs.wikipedia.org/wiki/Soubor:Featherx.JPG" TargetMode="External"/><Relationship Id="rId105" Type="http://schemas.openxmlformats.org/officeDocument/2006/relationships/hyperlink" Target="http://cs.wikipedia.org/wiki/Soubor:Featherx.JPG" TargetMode="External"/><Relationship Id="rId106" Type="http://schemas.openxmlformats.org/officeDocument/2006/relationships/hyperlink" Target="http://cs.wikipedia.org/wiki/Soubor:Featherx.JPG" TargetMode="External"/><Relationship Id="rId107" Type="http://schemas.openxmlformats.org/officeDocument/2006/relationships/hyperlink" Target="http://cs.wikipedia.org/wiki/Soubor:Featherx.JPG" TargetMode="External"/><Relationship Id="rId108" Type="http://schemas.openxmlformats.org/officeDocument/2006/relationships/hyperlink" Target="http://cs.wikipedia.org/wiki/Soubor:Featherx.JPG" TargetMode="External"/><Relationship Id="rId109" Type="http://schemas.openxmlformats.org/officeDocument/2006/relationships/hyperlink" Target="http://cs.wikipedia.org/wiki/Soubor:Featherx.JPG" TargetMode="External"/><Relationship Id="rId110" Type="http://schemas.openxmlformats.org/officeDocument/2006/relationships/hyperlink" Target="http://etc.usf.edu/clipart/15000/15019/cmnbritstar_15019.htm" TargetMode="External"/><Relationship Id="rId111" Type="http://schemas.openxmlformats.org/officeDocument/2006/relationships/hyperlink" Target="http://etc.usf.edu/clipart/15000/15019/cmnbritstar_15019.htm" TargetMode="External"/><Relationship Id="rId112" Type="http://schemas.openxmlformats.org/officeDocument/2006/relationships/hyperlink" Target="http://etc.usf.edu/clipart/15000/15019/cmnbritstar_15019.htm" TargetMode="External"/><Relationship Id="rId113" Type="http://schemas.openxmlformats.org/officeDocument/2006/relationships/hyperlink" Target="http://etc.usf.edu/clipart/15000/15019/cmnbritstar_15019.htm" TargetMode="External"/><Relationship Id="rId114" Type="http://schemas.openxmlformats.org/officeDocument/2006/relationships/hyperlink" Target="http://etc.usf.edu/clipart/15000/15019/cmnbritstar_15019.htm" TargetMode="External"/><Relationship Id="rId115" Type="http://schemas.openxmlformats.org/officeDocument/2006/relationships/hyperlink" Target="http://etc.usf.edu/clipart/15000/15019/cmnbritstar_15019.htm" TargetMode="External"/><Relationship Id="rId116" Type="http://schemas.openxmlformats.org/officeDocument/2006/relationships/hyperlink" Target="http://etc.usf.edu/clipart/15000/15019/cmnbritstar_15019.htm" TargetMode="External"/><Relationship Id="rId117" Type="http://schemas.openxmlformats.org/officeDocument/2006/relationships/hyperlink" Target="http://etc.usf.edu/clipart/15000/15019/cmnbritstar_15019.htm" TargetMode="External"/><Relationship Id="rId118" Type="http://schemas.openxmlformats.org/officeDocument/2006/relationships/hyperlink" Target="http://etc.usf.edu/clipart/15000/15019/cmnbritstar_15019.htm" TargetMode="External"/><Relationship Id="rId119" Type="http://schemas.openxmlformats.org/officeDocument/2006/relationships/hyperlink" Target="http://etc.usf.edu/clipart/15000/15019/cmnbritstar_15019.htm" TargetMode="External"/><Relationship Id="rId120" Type="http://schemas.openxmlformats.org/officeDocument/2006/relationships/hyperlink" Target="http://etc.usf.edu/clipart/15000/15019/cmnbritstar_15019.htm" TargetMode="External"/><Relationship Id="rId121" Type="http://schemas.openxmlformats.org/officeDocument/2006/relationships/hyperlink" Target="http://etc.usf.edu/clipart/15000/15019/cmnbritstar_15019.htm" TargetMode="External"/><Relationship Id="rId122" Type="http://schemas.openxmlformats.org/officeDocument/2006/relationships/hyperlink" Target="http://etc.usf.edu/clipart/15000/15019/cmnbritstar_15019.htm" TargetMode="External"/><Relationship Id="rId12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"/>
          <p:cNvGrpSpPr/>
          <p:nvPr/>
        </p:nvGrpSpPr>
        <p:grpSpPr>
          <a:xfrm>
            <a:off x="609480" y="228600"/>
            <a:ext cx="7845480" cy="1450800"/>
            <a:chOff x="609480" y="228600"/>
            <a:chExt cx="7845480" cy="1450800"/>
          </a:xfrm>
        </p:grpSpPr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228600"/>
              <a:ext cx="7845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3"/>
            <p:cNvSpPr/>
            <p:nvPr/>
          </p:nvSpPr>
          <p:spPr>
            <a:xfrm>
              <a:off x="609480" y="228600"/>
              <a:ext cx="7845480" cy="14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erpetua"/>
              </a:endParaRPr>
            </a:p>
          </p:txBody>
        </p:sp>
      </p:grpSp>
      <p:grpSp>
        <p:nvGrpSpPr>
          <p:cNvPr id="183" name="Group 4"/>
          <p:cNvGrpSpPr/>
          <p:nvPr/>
        </p:nvGrpSpPr>
        <p:grpSpPr>
          <a:xfrm>
            <a:off x="3733920" y="1828800"/>
            <a:ext cx="1263600" cy="1197000"/>
            <a:chOff x="3733920" y="1828800"/>
            <a:chExt cx="1263600" cy="1197000"/>
          </a:xfrm>
        </p:grpSpPr>
        <p:pic>
          <p:nvPicPr>
            <p:cNvPr id="184" name="Picture 5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2636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>
              <a:off x="3733920" y="1828800"/>
              <a:ext cx="12636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erpetua"/>
              </a:endParaRPr>
            </a:p>
          </p:txBody>
        </p:sp>
      </p:grpSp>
      <p:graphicFrame>
        <p:nvGraphicFramePr>
          <p:cNvPr id="186" name="Object 7"/>
          <p:cNvGraphicFramePr/>
          <p:nvPr/>
        </p:nvGraphicFramePr>
        <p:xfrm>
          <a:off x="0" y="3206880"/>
          <a:ext cx="879156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6880"/>
                    <a:ext cx="87915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8"/>
          <p:cNvGraphicFramePr/>
          <p:nvPr/>
        </p:nvGraphicFramePr>
        <p:xfrm>
          <a:off x="295200" y="4065480"/>
          <a:ext cx="8313840" cy="8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200" y="4065480"/>
                    <a:ext cx="83138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"/>
          <p:cNvGraphicFramePr/>
          <p:nvPr/>
        </p:nvGraphicFramePr>
        <p:xfrm>
          <a:off x="0" y="5035680"/>
          <a:ext cx="879156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035680"/>
                    <a:ext cx="879156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914400" y="225360"/>
            <a:ext cx="7772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7923600" y="6286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Obr. 5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47628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95120" bIns="195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  </a:t>
            </a:r>
            <a:r>
              <a:rPr b="0" lang="cs-CZ" sz="36000" spc="-1" strike="noStrike">
                <a:solidFill>
                  <a:srgbClr val="ffffff"/>
                </a:solidFill>
                <a:latin typeface="Perpetua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Perpetua"/>
              </a:rPr>
              <a:t>                                            </a:t>
            </a:r>
            <a:r>
              <a:rPr b="0" lang="cs-CZ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5580360" cy="5173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755640" y="11592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Calibri"/>
              </a:rPr>
              <a:t>Stavba těla hvězdice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154560" y="3284640"/>
            <a:ext cx="298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 – vychlípitelný žaludek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 – střevo 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3 – rektální žláza 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4 – kamenná trubice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5 – madreporit 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6 – trávicí trubice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7 – slepé střevo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8 – cévní soustava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9 – gonády 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 – ambulakrální destičky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1 - ampula</a:t>
            </a:r>
            <a:endParaRPr b="0" lang="en-US" sz="20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53" name=""/>
          <p:cNvSpPr/>
          <p:nvPr/>
        </p:nvSpPr>
        <p:spPr>
          <a:xfrm>
            <a:off x="1117800" y="633240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Obr. 5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900000" y="642960"/>
            <a:ext cx="7488360" cy="71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stém: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Říše: Živočichové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men: </a:t>
            </a:r>
            <a:r>
              <a:rPr b="0" lang="cs-CZ" sz="4000" spc="-1" strike="noStrike">
                <a:solidFill>
                  <a:srgbClr val="ff0000"/>
                </a:solidFill>
                <a:latin typeface="Calibri"/>
              </a:rPr>
              <a:t>Ostnokožci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řída: Ježovky (Echinoidea)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řída: Lilijice (Crinoidea)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řída: Hadice (Ophiuroidea)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řída: Hvězdice (Asteroidea)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řída: Sumýši (Holothuroidea)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55" name="Line 2"/>
          <p:cNvSpPr/>
          <p:nvPr/>
        </p:nvSpPr>
        <p:spPr>
          <a:xfrm>
            <a:off x="785880" y="1285920"/>
            <a:ext cx="7643880" cy="1440"/>
          </a:xfrm>
          <a:prstGeom prst="line">
            <a:avLst/>
          </a:prstGeom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90000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ežovky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900000" y="1413000"/>
            <a:ext cx="7772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356000" y="3567240"/>
            <a:ext cx="4391280" cy="3290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8101080" y="6381720"/>
            <a:ext cx="5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7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357440" y="3747960"/>
            <a:ext cx="5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6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2500200" y="4572000"/>
            <a:ext cx="47246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857160" y="35712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Video ze Seattle Aquaria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7994880" y="62150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Obr. 8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222640" y="2114640"/>
            <a:ext cx="4724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66" name="Sea Urchin Flipping + Sea Stars Creeping (tube feet!).wmv" descr=""/>
          <p:cNvPicPr/>
          <p:nvPr/>
        </p:nvPicPr>
        <p:blipFill>
          <a:blip r:embed="rId1"/>
          <a:stretch/>
        </p:blipFill>
        <p:spPr>
          <a:xfrm>
            <a:off x="1495440" y="2133720"/>
            <a:ext cx="6076800" cy="3386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597440" y="626436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Obr. 8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5589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kliknout na obrázek)</a:t>
            </a:r>
            <a:endParaRPr b="0" lang="en-US" sz="14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1042920" y="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Larva ježovky                pluteus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7524720" y="602136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9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684360" y="11592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Lilijice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667640" y="58770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0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26920" y="11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Hadice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914400" y="1447920"/>
            <a:ext cx="7772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95880" cy="5591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7667640" y="623736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Obr. 11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71640" y="0"/>
            <a:ext cx="77724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Hadice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914400" y="1447920"/>
            <a:ext cx="7772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54840" cy="4579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7380360" y="580536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2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888320" cy="5413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"/>
          <p:cNvSpPr/>
          <p:nvPr/>
        </p:nvSpPr>
        <p:spPr>
          <a:xfrm>
            <a:off x="7740720" y="580536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3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26920" y="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Hvězdice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"/>
          <p:cNvSpPr/>
          <p:nvPr/>
        </p:nvSpPr>
        <p:spPr>
          <a:xfrm>
            <a:off x="1187280" y="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Hvězdice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956720" y="616572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4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2743200" y="1662120"/>
            <a:ext cx="3429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gitální učební materiál</a:t>
            </a:r>
            <a:endParaRPr b="0" lang="en-US" sz="16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6818400" cy="1492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7596360" y="115920"/>
            <a:ext cx="86508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24000" y="1989000"/>
          <a:ext cx="8592840" cy="4608720"/>
        </p:xfrm>
        <a:graphic>
          <a:graphicData uri="http://schemas.openxmlformats.org/drawingml/2006/table">
            <a:tbl>
              <a:tblPr/>
              <a:tblGrid>
                <a:gridCol w="2508120"/>
                <a:gridCol w="6084720"/>
              </a:tblGrid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.1.07/1.5.00/34.060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program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1.5 Vzdělávání pro konkurenceschopnos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ce vzdělávacího procesu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sl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-4-11-BIO-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 zdravotnická škola, Brno, Jaselská 7/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r. Simona Valoškov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log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nokož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tvorb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ledna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slouží k výkladu uč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ický poky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ukovou prezentaci lze doplnit i samostatnou prací žáků (vytištěný obr. 4  žáci jednotlivě, ve dvojicích nebo po skupinách popisují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914400" y="6048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umýši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13120" y="1397160"/>
          <a:ext cx="1517760" cy="4182840"/>
        </p:xfrm>
        <a:graphic>
          <a:graphicData uri="http://schemas.openxmlformats.org/drawingml/2006/table">
            <a:tbl>
              <a:tblPr/>
              <a:tblGrid>
                <a:gridCol w="257400"/>
                <a:gridCol w="255240"/>
                <a:gridCol w="144720"/>
                <a:gridCol w="144360"/>
                <a:gridCol w="142920"/>
                <a:gridCol w="142920"/>
                <a:gridCol w="144360"/>
                <a:gridCol w="142920"/>
                <a:gridCol w="142920"/>
              </a:tblGrid>
              <a:tr h="125280"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120">
                <a:tc gridSpan="8"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600"/>
                      </a:br>
                      <a:br>
                        <a:rPr sz="600"/>
                      </a:b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othuria edulis Photo © Biopix: JC Schou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endParaRPr b="0" lang="en-US" sz="6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960" rIns="30960" tIns="15480" bIns="1548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t" marL="30960" marR="3096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440"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960" rIns="30960" tIns="15480" bIns="1548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600"/>
                      </a:br>
                      <a:br>
                        <a:rPr sz="600"/>
                      </a:br>
                      <a:r>
                        <a:rPr b="0" lang="cs-CZ" sz="600" spc="-1" strike="noStrike" u="sng">
                          <a:solidFill>
                            <a:srgbClr val="ccccff"/>
                          </a:solidFill>
                          <a:uFillTx/>
                          <a:latin typeface="Calibri"/>
                          <a:hlinkClick r:id="rId1"/>
                        </a:rPr>
                        <a:t>..</a:t>
                      </a:r>
                      <a:r>
                        <a:rPr b="0" lang="cs-CZ" sz="600" spc="-1" strike="noStrike" u="sng">
                          <a:solidFill>
                            <a:srgbClr val="ccccff"/>
                          </a:solidFill>
                          <a:uFillTx/>
                          <a:latin typeface="Calibri"/>
                          <a:hlinkClick r:id="rId2"/>
                        </a:rPr>
                        <a:t>slideshow</a:t>
                      </a: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600"/>
                      </a:br>
                      <a:br>
                        <a:rPr sz="600"/>
                      </a:br>
                      <a:r>
                        <a:rPr b="0" lang="cs-CZ" sz="600" spc="-1" strike="noStrike" u="sng">
                          <a:solidFill>
                            <a:srgbClr val="ccccff"/>
                          </a:solidFill>
                          <a:uFillTx/>
                          <a:latin typeface="Calibri"/>
                          <a:hlinkClick r:id="rId3"/>
                        </a:rPr>
                        <a:t>..plate</a:t>
                      </a: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600"/>
                      </a:br>
                      <a:br>
                        <a:rPr sz="600"/>
                      </a:br>
                      <a:r>
                        <a:rPr b="0" lang="cs-CZ" sz="600" spc="-1" strike="noStrike" u="sng">
                          <a:solidFill>
                            <a:srgbClr val="ccccff"/>
                          </a:solidFill>
                          <a:uFillTx/>
                          <a:latin typeface="Calibri"/>
                          <a:hlinkClick r:id="rId4"/>
                        </a:rPr>
                        <a:t>..</a:t>
                      </a:r>
                      <a:r>
                        <a:rPr b="0" lang="cs-CZ" sz="600" spc="-1" strike="noStrike" u="sng">
                          <a:solidFill>
                            <a:srgbClr val="ccccff"/>
                          </a:solidFill>
                          <a:uFillTx/>
                          <a:latin typeface="Calibri"/>
                          <a:hlinkClick r:id="rId5"/>
                        </a:rPr>
                        <a:t>zoom</a:t>
                      </a: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br>
                        <a:rPr sz="600"/>
                      </a:br>
                      <a:endParaRPr b="0" lang="en-US" sz="600" spc="-1" strike="noStrike">
                        <a:solidFill>
                          <a:srgbClr val="ffffff"/>
                        </a:solidFill>
                        <a:latin typeface="Perpetua"/>
                      </a:endParaRPr>
                    </a:p>
                  </a:txBody>
                  <a:tcPr anchor="ctr" marL="30960" marR="309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1" name="Picture 49" descr=""/>
          <p:cNvPicPr/>
          <p:nvPr/>
        </p:nvPicPr>
        <p:blipFill>
          <a:blip r:embed="rId6"/>
          <a:stretch/>
        </p:blipFill>
        <p:spPr>
          <a:xfrm>
            <a:off x="714240" y="857160"/>
            <a:ext cx="8118720" cy="54295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50"/>
          <p:cNvSpPr/>
          <p:nvPr/>
        </p:nvSpPr>
        <p:spPr>
          <a:xfrm>
            <a:off x="7956720" y="59500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5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755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umýši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7667640" y="60930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6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767280" cy="6008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71424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umýši</a:t>
            </a:r>
            <a:endParaRPr b="0" lang="en-US" sz="4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7525080" y="623736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Calibri"/>
              </a:rPr>
              <a:t>Obr. 17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826920" y="0"/>
            <a:ext cx="7929720" cy="80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,2,3: dílo autorky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4: Ostnokožci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Gymtri.trinec: můj pracovní sešit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9 [cit. 2013-01-26]. Dostupné z: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8e58b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gymtr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trinec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/index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php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?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option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=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com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_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content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&amp;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view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=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article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9"/>
              </a:rPr>
              <a:t>&amp;id=140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0"/>
              </a:rPr>
              <a:t>ostnokoc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1"/>
              </a:rPr>
              <a:t>&amp;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2"/>
              </a:rPr>
              <a:t>catid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3"/>
              </a:rPr>
              <a:t>=18:zoologie&amp;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4"/>
              </a:rPr>
              <a:t>Itemid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5"/>
              </a:rPr>
              <a:t>=21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5: HILLEWAERT, Hans. Asterias.sv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Commons wikimedia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7 [cit. 2013-01-26]. Dostupné pod licencí Creative Commons na WWW 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6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7"/>
              </a:rPr>
              <a:t>common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8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29"/>
              </a:rPr>
              <a:t>wikimedia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0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1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2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3"/>
              </a:rPr>
              <a:t>wik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4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5"/>
              </a:rPr>
              <a:t>File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6"/>
              </a:rPr>
              <a:t>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7"/>
              </a:rPr>
              <a:t>Asteria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8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39"/>
              </a:rPr>
              <a:t>sv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0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6: DROLE  MALE. Erizo de mar.2 - Coruña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7 [cit. 2013-01-24]. Dostupné pod licencí Creative Commons  na WWW 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1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2"/>
              </a:rPr>
              <a:t>common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3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4"/>
              </a:rPr>
              <a:t>wikimedia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5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6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7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8"/>
              </a:rPr>
              <a:t>wik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49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0"/>
              </a:rPr>
              <a:t>File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1"/>
              </a:rPr>
              <a:t>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2"/>
              </a:rPr>
              <a:t>Erizo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3"/>
              </a:rPr>
              <a:t>_de_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4"/>
              </a:rPr>
              <a:t>mar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5"/>
              </a:rPr>
              <a:t>.2_-_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6"/>
              </a:rPr>
              <a:t>Coru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7"/>
              </a:rPr>
              <a:t>%C3%B1a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8e58b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8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7: Strongylocentrotus purpuratus P1160330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pedia: the free encyclopedia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San Francisco (CA): Wikimedia Foundation, 2001- [cit. 2013-01-26]. Dostupné pod licencí Creative Commons na WWW 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59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0"/>
              </a:rPr>
              <a:t>c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1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2"/>
              </a:rPr>
              <a:t>wikipedia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3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4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5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6"/>
              </a:rPr>
              <a:t>wik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7"/>
              </a:rPr>
              <a:t>/Soubor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8"/>
              </a:rPr>
              <a:t>Strongylocentrotu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69"/>
              </a:rPr>
              <a:t>_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0"/>
              </a:rPr>
              <a:t>purpuratu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1"/>
              </a:rPr>
              <a:t>_P1160330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2"/>
              </a:rPr>
              <a:t>jp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3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8: SEATTLE AQUARIUM. .Sea Urchin Flipping + Sea Stars Creeping (tube feet!)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YouTube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9 [cit. 2013-01-24]. Dostupné z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4"/>
              </a:rPr>
              <a:t>http://www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5"/>
              </a:rPr>
              <a:t>youtube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6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7"/>
              </a:rPr>
              <a:t>com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8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79"/>
              </a:rPr>
              <a:t>watch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0"/>
              </a:rPr>
              <a:t>?v=8JOxiT5_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1"/>
              </a:rPr>
              <a:t>zpc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2"/>
              </a:rPr>
              <a:t>&amp;list=PL18332FFCA30EDAVELLUTTINI, Bruno C.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3"/>
              </a:rPr>
              <a:t>Echinopluteus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9: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runo C. Vellutini. L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arva.jpg.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7 [cit. 2013-01-24]. Dostupné pod licencí Creative Commons z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4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5"/>
              </a:rPr>
              <a:t>common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6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7"/>
              </a:rPr>
              <a:t>wikimedia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8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89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0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1"/>
              </a:rPr>
              <a:t>wik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2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3"/>
              </a:rPr>
              <a:t>File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4"/>
              </a:rPr>
              <a:t>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5"/>
              </a:rPr>
              <a:t>Echinopluteu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6"/>
              </a:rPr>
              <a:t>_larva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7"/>
              </a:rPr>
              <a:t>jp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8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0: ALBERT KOK. Soubor:Featherx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pedia: the free encyclopedia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San Francisco (CA): Wikimedia Foundation, 2001- [cit. 2013-01-24]. Dostupné pod licencí Creative Commons na WWW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99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0"/>
              </a:rPr>
              <a:t>cs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1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2"/>
              </a:rPr>
              <a:t>wikipedia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3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4"/>
              </a:rPr>
              <a:t>org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5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6"/>
              </a:rPr>
              <a:t>wiki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7"/>
              </a:rPr>
              <a:t>/Soubor: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8"/>
              </a:rPr>
              <a:t>Featherx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09"/>
              </a:rPr>
              <a:t>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1: S. G. GOODRICH. Common brittle-star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Clip Art etc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Florida: Center for Instructional Technology, 2004-2013 [cit. 2013-01-21]. Dostupné z: 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0"/>
              </a:rPr>
              <a:t>http:/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1"/>
              </a:rPr>
              <a:t>etc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2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3"/>
              </a:rPr>
              <a:t>usf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4"/>
              </a:rPr>
              <a:t>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5"/>
              </a:rPr>
              <a:t>edu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6"/>
              </a:rPr>
              <a:t>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7"/>
              </a:rPr>
              <a:t>clipart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8"/>
              </a:rPr>
              <a:t>/15000/15019/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19"/>
              </a:rPr>
              <a:t>cmnbritstar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20"/>
              </a:rPr>
              <a:t>_15019.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21"/>
              </a:rPr>
              <a:t>htm</a:t>
            </a:r>
            <a:r>
              <a:rPr b="0" lang="cs-CZ" sz="900" spc="-1" strike="noStrike" u="sng">
                <a:solidFill>
                  <a:srgbClr val="ccccff"/>
                </a:solidFill>
                <a:uFillTx/>
                <a:latin typeface="Calibri"/>
                <a:hlinkClick r:id="rId122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2: LARRY ZETWOCH. Ophionereis reticulata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Biolib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1999-2013 [cit. 2013-01-24]. Dostupné pod licencí Public Domain na WWW: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www.biolib.cz/cz/image/id25279/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3: Soubor:Nerr0878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pedia: the free encyclopedia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San Francisco (CA): Wikimedia Foundation, 2001- [cit. 2013-01-23]. Dostupné z: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cs.wikipedia.org/wiki/Soubor:Nerr0878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4: OTREBSKI, Andrzej. Genova akwarium 09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12 [cit. 2013-01-24]. Dostupné pod licencí Creative Commons  na WWW: 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commons.wikimedia.org/wiki/File:Genova_akwarium_09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5: JC SHOU. Edible Sea Cucumber (Holothuria edulis)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Biopix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3 [cit. 2013-01-24]. Dostupné z: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www.biopix.com/edible-sea-cucumber-holothuria-edulis_photo-40722.aspx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6: DR. DWAYNE MEADOWS, NOAA/NMFS/OPR. File:Reef0659 - Flickr - NOAA Photo Library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12 [cit. 2013-01-24]. Dostupné pod licencí Creative Commons  na WWW :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commons.wikimedia.org/wiki/File:Reef0659_-_Flickr_-_NOAA_Photo_Library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r. 17: BROCKEN INAGLORY. Sea cucumber defence.JPG. In: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Wikimedia Commons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[online]. 2007 [cit. 2013-01-24]. Dostupné pod licencí Creative Commons  na WWW : </a:t>
            </a:r>
            <a:r>
              <a:rPr b="0" lang="cs-CZ" sz="900" spc="-1" strike="noStrike">
                <a:solidFill>
                  <a:srgbClr val="ccccff"/>
                </a:solidFill>
                <a:latin typeface="Calibri"/>
              </a:rPr>
              <a:t>http://commons.wikimedia.org/wiki/File:Sea_cucumber_defence.JPG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  <a:ea typeface="Arial"/>
              </a:rPr>
              <a:t>JELÍNEK, Jan a Vladimír ZICHÁČEK.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  <a:ea typeface="Arial"/>
              </a:rPr>
              <a:t>Biologie pro gymnázia: (teoretická a praktická část)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  <a:ea typeface="Arial"/>
              </a:rPr>
              <a:t>. 2. dopl. a rozš. vyd. Olomouc: Nakladatelství Olomouc, 1998, 551 s., [38] s. il. na příl. ISBN 80-7182-050-4. </a:t>
            </a: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Perpet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Perpet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Perpet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75564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roje obrázků a textů: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7280" y="16286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teriály jsou určeny pro bezplatné používání pro potřeby výuky a vzdělávání na všech typech škol a školských zařízení. Jakékoliv další využití podléhá autorskému záko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900000" y="692280"/>
            <a:ext cx="8460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  <a:ea typeface="Arial"/>
              </a:rPr>
              <a:t>Ostnokožci</a:t>
            </a:r>
            <a:r>
              <a:rPr b="1" lang="cs-CZ" sz="3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  <a:ea typeface="Arial"/>
              </a:rPr>
              <a:t>Echinodermata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β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řada: Druhoústí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Triblastica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coelom – druhotná tělní dutina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ústní otvor se druhotně prolamuje na opačné 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straně těla než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blastoporus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71720" y="6429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Ontogeneze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7494840" y="6072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Obr. 1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630864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928000" cy="471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V="1">
            <a:off x="6156360" y="4508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5157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ktoderm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32720" y="4508280"/>
            <a:ext cx="431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toderm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545160" cy="345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6622920" cy="194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4360" y="260280"/>
            <a:ext cx="81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 u="sng">
                <a:solidFill>
                  <a:srgbClr val="ff3300"/>
                </a:solidFill>
                <a:uFillTx/>
                <a:latin typeface="Calibri"/>
              </a:rPr>
              <a:t>Prvoústí</a:t>
            </a:r>
            <a:r>
              <a:rPr b="1" lang="cs-CZ" sz="2400" spc="-1" strike="noStrike" u="sng">
                <a:solidFill>
                  <a:srgbClr val="ff3300"/>
                </a:solidFill>
                <a:uFillTx/>
                <a:latin typeface="Calibri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–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loštěnci, hlístice, měkkýši, kroužkovci, členovci</a:t>
            </a:r>
            <a:endParaRPr b="0" lang="en-US" sz="2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55640" y="29242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 u="sng">
                <a:solidFill>
                  <a:srgbClr val="ff3300"/>
                </a:solidFill>
                <a:uFillTx/>
                <a:latin typeface="Calibri"/>
              </a:rPr>
              <a:t>Druhoústí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–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stnokožci, strunatci</a:t>
            </a:r>
            <a:endParaRPr b="0" lang="en-US" sz="2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7425720" y="63579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Obr. 2, 3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2276640"/>
            <a:ext cx="23749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vor gastruly - ústa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419640" y="155736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2349360"/>
            <a:ext cx="39607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ruhé straně druhotně- řitní otvor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740720" y="1844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4724280"/>
            <a:ext cx="29527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vor gastruly – řitní otvor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4869000"/>
            <a:ext cx="37796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stní otvor se prolamuje druhotně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80000" y="4221000"/>
            <a:ext cx="158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867280" y="4292280"/>
            <a:ext cx="144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8" name=""/>
          <p:cNvSpPr/>
          <p:nvPr/>
        </p:nvSpPr>
        <p:spPr>
          <a:xfrm>
            <a:off x="1547640" y="6308640"/>
            <a:ext cx="71298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vor gastruly zaniká a druhotně se prolamuje ústní i řitní otvor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"/>
          <p:cNvSpPr/>
          <p:nvPr/>
        </p:nvSpPr>
        <p:spPr>
          <a:xfrm>
            <a:off x="8389440" y="29242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0" name=""/>
          <p:cNvSpPr/>
          <p:nvPr/>
        </p:nvSpPr>
        <p:spPr>
          <a:xfrm>
            <a:off x="8460720" y="645336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714240" y="189000"/>
            <a:ext cx="842976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Kmen: Ostnokožci (Echinodermata)</a:t>
            </a: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robylá skupina- prvohory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ře s vyšší salinitou  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ělo paprsčitě souměr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(larvy dvoustranně 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měrné)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var těla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ulovitý (ježovky)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prsčitý ( hvězdice)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kurkovitý (sumýši)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lichovitý (lilijice)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rčovitý (hadice)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2" name="Line 2"/>
          <p:cNvSpPr/>
          <p:nvPr/>
        </p:nvSpPr>
        <p:spPr>
          <a:xfrm>
            <a:off x="684360" y="836640"/>
            <a:ext cx="8319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826920" y="260280"/>
            <a:ext cx="863928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ělní pokryv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ůž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str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nitřní vápenatá z destiček (mohou nést ostny,  jehlice ..)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ávicí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rubicovitá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valová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ahrazena </a:t>
            </a:r>
            <a:r>
              <a:rPr b="0" lang="cs-CZ" sz="2400" spc="-1" strike="noStrike">
                <a:solidFill>
                  <a:srgbClr val="ff3300"/>
                </a:solidFill>
                <a:latin typeface="Calibri"/>
              </a:rPr>
              <a:t>ambulakrální soustavou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ýchací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žábry, vodní plíce, </a:t>
            </a:r>
            <a:r>
              <a:rPr b="0" lang="cs-CZ" sz="2400" spc="-1" strike="noStrike">
                <a:solidFill>
                  <a:srgbClr val="ff3300"/>
                </a:solidFill>
                <a:latin typeface="Calibri"/>
              </a:rPr>
              <a:t>ambulakrální soustav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évní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otevřená, srdce je nevyvinuté a v cévách proud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hydrolymfa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lučovací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ahrazena </a:t>
            </a:r>
            <a:r>
              <a:rPr b="0" lang="cs-CZ" sz="2400" spc="-1" strike="noStrike">
                <a:solidFill>
                  <a:srgbClr val="ff3300"/>
                </a:solidFill>
                <a:latin typeface="Calibri"/>
              </a:rPr>
              <a:t>ambulakrální soustavou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rvová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radiální, chybí gangli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myslová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iskovitá očka, hmat, chemoreceptory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      polohové receptory nebo může chybě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hlavní 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gonochoristi nebo hermofroditi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množová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oplození vnější, vývin nepřímý (larva dipleura,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pluteus)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chopnost  regenerace, autotomie</a:t>
            </a:r>
            <a:endParaRPr b="0" lang="en-US" sz="2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755640" y="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Calibri"/>
              </a:rPr>
              <a:t>Orgánové soustavy: </a:t>
            </a:r>
            <a:endParaRPr b="0" lang="en-US" sz="32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14240" y="549360"/>
            <a:ext cx="825048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269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Calibri"/>
              </a:rPr>
              <a:t>Ambulakrální soustava</a:t>
            </a:r>
            <a:endParaRPr b="0" lang="en-US" sz="40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755640" y="1197000"/>
            <a:ext cx="8143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826920" y="1916280"/>
            <a:ext cx="792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čín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madreporovou destičko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která pokraču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amenným kanálkem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rozvodného systému.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menný kanálek na úrovni úst přechází v okružní chodbu, ze které vystup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liho váč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 nichž vznikají lymfocyty.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 každou panožkou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ampul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která slouží jako zásobník vody. Střídavé plnění panožky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ampu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odou umožňuje pohyb .</a:t>
            </a:r>
            <a:endParaRPr b="0" lang="en-US" sz="28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1042920" y="210960"/>
            <a:ext cx="7900920" cy="6647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2124000" y="549360"/>
            <a:ext cx="12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adreporit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826920" y="115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Calibri"/>
              </a:rPr>
              <a:t>Stavba těla ježovky</a:t>
            </a:r>
            <a:endParaRPr b="0" lang="en-US" sz="24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43200" y="333360"/>
            <a:ext cx="124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ělní dutina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501800" y="623880"/>
            <a:ext cx="111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tní otvor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88000" y="549360"/>
            <a:ext cx="69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stn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37440" y="206856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onád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7524360" y="3144960"/>
            <a:ext cx="7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řevo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7526160" y="3933720"/>
            <a:ext cx="105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ápen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stičk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7095960" y="5668920"/>
            <a:ext cx="12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edicelari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5292720" y="5661000"/>
            <a:ext cx="13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ristotelova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ucerna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3850920" y="6093000"/>
            <a:ext cx="119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stní otvor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2634840" y="5734080"/>
            <a:ext cx="73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br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695160" y="4941720"/>
            <a:ext cx="1342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iho váček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757440" y="2781360"/>
            <a:ext cx="87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mpula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757080" y="1341360"/>
            <a:ext cx="141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mbulakrální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ožk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2125800" y="981000"/>
            <a:ext cx="108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menný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nálek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8172720" y="64897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Obr. 4</a:t>
            </a:r>
            <a:endParaRPr b="0" lang="en-US" sz="10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21:30:58Z</dcterms:created>
  <dc:creator>Ing. Valošek Petr</dc:creator>
  <dc:description/>
  <dc:language>en-US</dc:language>
  <cp:lastModifiedBy>svaloskova</cp:lastModifiedBy>
  <dcterms:modified xsi:type="dcterms:W3CDTF">2013-10-09T07:25:56Z</dcterms:modified>
  <cp:revision>61</cp:revision>
  <dc:subject/>
  <dc:title>Snímek 1</dc:title>
</cp:coreProperties>
</file>